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D04-ABBD-4831-9406-D8236567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7AB-3E36-4E6E-AD16-F12F689B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89A-0739-4FF2-BEEA-E3AB3D0D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928-B5D3-4466-9D56-3E6932FF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E47-ED01-41B0-9242-64495BE6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2CE-8DFD-4A57-9FA3-4519EF1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319-A796-4488-83D7-2429B8C7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283-1A6C-4D88-9869-1528A262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5A2-3B75-45AC-9291-8C65FA77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F41-76F2-40DA-A16E-5399CAC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55D-0293-414D-BF4E-7C254DF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3E4-CA64-4C48-823A-22C7DC4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E30A-2D85-4C5E-92E7-BC1115DE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aspberry&amp;usg=ALkJrhgQ3zZW4g8mZYDF7JLgLLuv-v_Ycw" TargetMode="External"/><Relationship Id="rId4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&amp;usg=ALkJrhgVhKpNdVy0LgY7FhRnsFfzgthHFw" TargetMode="External"/><Relationship Id="rId5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Europe&amp;usg=ALkJrhgrO_3KePL2ro-6NklNnhde3Z4sPg" TargetMode="External"/><Relationship Id="rId6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Asia&amp;usg=ALkJrhi1gqEiytxnarClGy7Hcxv5XjuQYA" TargetMode="External"/><Relationship Id="rId7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fe-0" TargetMode="External"/><Relationship Id="rId8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idaeus&amp;usg=ALkJrhhyEG2yZcCJdgClPurYNVw-aeQeJA#cite_note-grin-1" TargetMode="External"/><Relationship Id="rId9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North_America&amp;usg=ALkJrhhLT3GQuY0lxtfjHoqBRiPji30v3A" TargetMode="External"/><Relationship Id="rId10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Variety_%28biology%29&amp;usg=ALkJrhjbC-Gv7tUlqkuZB8XmaB4RyQoMbg" TargetMode="External"/><Relationship Id="rId11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2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3" Type="http://schemas.openxmlformats.org/officeDocument/2006/relationships/hyperlink" Target="http://translate.googleusercontent.com/translate_c?hl=ro&amp;prev=/search%3Fq%3Drubus%2Bidaeus%26hl%3Dro%26client%3Dfirefox-a%26hs%3DeGa%26rls%3Dorg.mozilla:ro:official%26channel%3Dnp%26prmd%3Dimvns&amp;rurl=translate.google.ro&amp;sl=en&amp;u=http://en.wikipedia.org/wiki/Rubus_strigosus&amp;usg=ALkJrhj0mHLo-5lMgST3_ctKG6pRO2lKjQ" TargetMode="External"/><Relationship Id="rId14" Type="http://schemas.openxmlformats.org/officeDocument/2006/relationships/image" Target="../media/image2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u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(zmeur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cazional,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uropean de zmeură, Framboise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pur şi simplu,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meur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), este o specie de culoare roşie-fructe de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nativ pentru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urop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de Nord şi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sia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de obicei cultivat în alte regiuni tempera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2]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O instalaţie de strâns legate, în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merica de Nord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, uneori considerate ca fiind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iu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var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este mult mai frecvent tratate ca specie, distincte.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trigosus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ub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(American zmeura), cum se face aici. [3] Red-fructe zmeura cultivate, chiar şi în America de Nord, sunt, în general,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ubus 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au derivaţi horticole de hibrizi de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idaeu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strigosus,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aceste plante sunt toate abordate în prezentul arti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&amp;scedil;ier: Malina.jpg"/>
          <p:cNvPicPr/>
          <p:nvPr/>
        </p:nvPicPr>
        <p:blipFill>
          <a:blip r:embed="rId14"/>
          <a:stretch/>
        </p:blipFill>
        <p:spPr>
          <a:xfrm>
            <a:off x="457200" y="1600200"/>
            <a:ext cx="3733920" cy="2182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5"/>
          <a:stretch/>
        </p:blipFill>
        <p:spPr>
          <a:xfrm>
            <a:off x="4648320" y="1600200"/>
            <a:ext cx="40384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22:16Z</dcterms:created>
  <dc:creator>Elev</dc:creator>
  <dc:description/>
  <dc:language>en-US</dc:language>
  <cp:lastModifiedBy>Elev</cp:lastModifiedBy>
  <dcterms:modified xsi:type="dcterms:W3CDTF">2012-06-18T10:29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